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60B-B604-4460-BAB8-C129A25D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508-EE45-4EC3-BA2F-C7AF43E4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0AD-88C3-4DC8-AA1E-C1B0D7F0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60A-3DC2-4954-8DA2-0B28DAED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3DA-DB3B-41CB-8B0A-3F8265C9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131-BF0E-4F23-9CAA-D1DA5768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F58-971F-4807-846D-143F61DD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3B7-A35B-417C-9AD1-6C2CB5AE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F28-7E50-4C38-BE51-6AA18D9F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160-B302-4CCD-8E63-FA415488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DB2-4A52-4591-AF97-2A7315B7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A51-FA68-4489-9AC1-590B4ACD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63BD-61D3-4692-A202-9848736396F0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存储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面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硬件控制系统开发语言，其和单片机的硬件资源有着密切的联系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经过编译后，是要在单片机上运行的。因此，程序代码以及数据都是需要按照一定的存储类型保存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特定存储区中的。存储结构的组织形式是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很重要的组成部分。本章将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存储结构、存储类型和动态内存分配函数等相关内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5  x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为关键字，标识符为变量的类型。对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区寻址，须装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位地址，因此尽量将外部数据存放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区。例如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reg51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unsigned char pdata RX1;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声明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unsigned char pdata RX2;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声明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while(1)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X1=P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赋值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X2=P3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赋值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6  cod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code text[]=”Hello everyone!”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定义字符串数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定义数据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会将其定义在程序代码储存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P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使用上面几种存储类型时，因为访问内部数据存储器比访问外部数据存储器快，所以应将频繁使用的变量放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将很少使用的变量放在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扩展数据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扩展数据类型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译器所特有的，不属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NS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准。这些类型的数据可以操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特殊功能寄存器，而不能用指针对其进行存取。扩展数据类型可由以下几种关键字说明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字节寻址，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特殊功能寄存器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P0=0x8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后的一个字节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P1=0x9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后的一个字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字寻址，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特殊功能寄存器，且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必须低位在低字节，高位在紧跟德高字节才行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T2=0xCC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1  sf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sfr16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以用于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特殊功能寄存器，其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地址常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地址常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。特殊功能寄存器的定义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=0xA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，其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0H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=0xCC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地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L=C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H=CDH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2  sbi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定义可位寻址对象，例如特殊功能寄存器某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言中，有如下几种定义方法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地址。该语句用于将位地址赋值给位变量名，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0x9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位的绝对地址赋给位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这里需要注意的是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位地址必须位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F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内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位置。该语句使用符号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来获得位数据，并赋值给位变量。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fr P1=0x9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定义一个特殊功能寄存器名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P1^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指定位变量名所在的位置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位置。该语句和第二种方法是一样的，只是将特殊功能寄存器名用位地址常数直接表示。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0x90^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3  bi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型变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变量可用于变量类型、函数声明、函数返回值等场合，其定义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的位变量存放于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位变量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里是外部变量，但编译系统不对其初始化，必须在程序中初始化位变量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xtern bit b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模式是编译环境中指定的变量的存储区形式。一般来说，如果在定义变量时默认存储类型，编译系统将按照存储模式所规定的默认存储区来指定变量、函数参数等的存储区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系统支持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存储模式共三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1  Smal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均装保存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访问速度快，缺点是空间有限，需要节约使用存储空间，只适用于规模较小的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2  Compac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均装保存在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的一页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Byt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内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存储空间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宽裕，缺点是访问速度要慢些，但较下面介绍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要快，是一种中间状态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适用于变量不超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，可以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指定地址的高字节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3  Larg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放在多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4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中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空间大，可存变量多，缺点是速度较慢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使用数据指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对变量进行寻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结构是存储器的组织形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采用哈佛结构，将程序代码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数据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分开，各自遵循各自的寻址机构和寻址方式。这里概括一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存储器的硬件构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模式的选择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模式一般是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选项中进行选择，也可以在程序中指定。在程序中指定存储模式的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fun1(void) small{ }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该语句声明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un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函数内部变量全部保存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对于一些经常使用的和特别耗时的地方可以这样声明，有利于提高运行速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存储器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支持一般指针和存储器指针。对变量进行声明时可以指定变量的存储类型。同样，在对于指针变量声明的时候，也可以指定存储类型。下面分别进行介绍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一般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指针的声明在前面已经介绍过，不过同时还可以说明指针的存储类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ng * state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stat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n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整数的指针，则依存储模式存放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*xdata ptr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一个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的指针，放于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指针可存放于任何存储器中，其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存放，分别为存储器类型、高位偏移、低位偏移量。使用一般指针时，可以访问数据而不用考虑其在存储器的位置，因此十分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指针在声明时指定了存储类型，其总是指向特定的存储区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data *str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s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数据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 *pow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po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向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整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存储器的类型已经指定了，因此这种指针存放时，只需存放偏移量即可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只需一个字节，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就够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5.5.3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针存储类型与指针所指向的数据的存储类型的关系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针存储类型与指针所指向的数据的存储类型是不同的概念，在使用时一定要注意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tmp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的内存空间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x0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x000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data * data pstr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=tmp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保存在外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访问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需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节来寻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空间，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关键字，所以编译器将其编译成指向内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指针变量了。最后的赋值语句便是错误的。上面的语句可以改为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tmp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* data pstr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 = tmp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动态内存分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动态内存分配用于对一些动态结构进行存储空间的分配。其中这些动态结构可以是树和链表等。对于大多数情况，应尽可能在编译的时候确定所需要的内存空间，并进行分配，例如数组的大小需要明确指定。而对于一些程序，采用动态内存分配可以实现数据的灵活处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.1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动态分配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提供了多个动态内存分配函数。这些函数要求用户声明一个字节数组作为堆，根据所需要的动态内存大小来决定数组的长度，被声明的数组存放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中，库函数可以使用特定指针来进行寻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的动态分配函数示例如下所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it_mem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初始化动态内存区的程序源代码。可以指定动态内存的位置及大小，只有使用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it_mem( 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才可以调回其他函数，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是给数组分配内存，可以指定单位数据类型及该单元数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分配一段固定大小的内存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调整当前分配动态内存的大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ree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重新分配空间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.2  malloc(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都是用来动态分配内存空间的。但两者在使用时稍有区别，主要体现在函数形式以及内存空间的分配上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具有不同的使用形式，下面分别进行讲解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的形式示例如下：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包含一个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signed 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要分配的内存空间的大小，该函数返回一个指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的形式示例如下：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*calloc(size_t numElements,size_t sizeOfElement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7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的存储器结构、存储类型、存储模式以及存储器指针等，后面还介绍了动态内存分配。数据的存储模式是单片机系统特有的概念，这里的内容涉及单片机的硬件资源比较多，用户应该对照着单片机的介绍来进行学习，这样可以加深理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.1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存储区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及其兼容单片机在物理上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存储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内数据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外数据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内程序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外程序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早期的单片机片内存储器比较小，最近新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单片机在存储器方面有了很大的扩展。每个存储区的大小和用法，可以参阅不同型号单片机的说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片内数据存储器（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）的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中的变量一般保存在片内数据存储器，这样取址速度快。当然变量也可以保存在片外数据存储区，这将在后面进行介绍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内部数据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可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区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片内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F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特殊功能寄存器区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7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，又可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区域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通用寄存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可位寻址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用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类型是指程序中变量和常量等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硬件系统中的存放方式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编译器完全支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硬件结构，可完全访问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硬件系统的所有部分，并将数据定位在不同的硬件存储区中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言中支持的存储类型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几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硬件系统中，存储类型与存储区关系，如表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7372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1  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系统中，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寻址是最快的。所以一般来说，应将频繁使用的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ch[5]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string[6]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loa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flo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yTyp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newtype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定义的数据类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2  b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是可位寻址数据存储器，可以将要求可位寻址的数据定义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nsigned cha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ie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位寻址区定义字符变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mn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位寻址区定义整型数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n[10]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e5=ie^5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关键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位变量来可寻址对象其中一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n8=mn[1]^8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3  i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为间接寻址片内数据存储区，可访问片内全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空间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xtern floa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 t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位寻址区定义浮点型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可以定义浮点型变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4  p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存储在分页寻址外部数据存储区，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signed 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 pun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位寻址区定义字符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u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8:24Z</dcterms:created>
  <dc:creator>cheng</dc:creator>
  <dc:description/>
  <dc:language>en-US</dc:language>
  <cp:lastModifiedBy>cheng</cp:lastModifiedBy>
  <dcterms:modified xsi:type="dcterms:W3CDTF">2008-10-13T06:44:38Z</dcterms:modified>
  <cp:revision>3</cp:revision>
  <dc:subject/>
  <dc:title>第15章  C51的存储结构</dc:title>
</cp:coreProperties>
</file>